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3343-B252-4882-84E0-0DD10E4F0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79FE-2E0D-43CD-9026-1A6DFCFE0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20E0-DF96-47A3-AD2E-3395FF288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B16D-C3F9-498B-B4BC-2A1F10579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A819-6B4F-4B5D-8DA1-37CEDB0E1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954F-1CEE-4785-8ABF-CB610440F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F6F3-EABE-4531-AD85-8880011CF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C659-3D82-4991-8702-B6491460D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BDBB-890E-4B61-936C-C018B6A67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8BEC-EA3B-4F1A-9087-99D18DDB7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DDB6-A150-4D84-8C03-A37670F3A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E9C6-CC8B-44EB-9E34-C3BE9AEC6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3860-EE47-4137-A752-55F2DA890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7379-C9DB-45D4-92B8-91CCB4BD7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A0E1-09D8-4529-A470-CE956E26E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140B-220B-4ABF-8E00-B409060DB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EC79-24EC-42E1-B79A-19472634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905-6EF5-47EF-ADF5-24935C22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9BDB-46BB-4135-B306-A13EC9DE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53AC-A271-463F-9DDE-32762BA7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2C2-EB61-4D92-AACE-8FE979F6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555-04B5-48DB-A6A0-AD1148C2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FEA-6B79-4099-906C-3052EE21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F0C2-17C9-4C71-B7E7-32C8229E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48D-E0DD-4615-A986-F0464C8B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17A-18BE-4BF5-8AA6-6DB16FAA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2B1-2F72-484A-B5D7-B164E598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D4A-C844-4ADA-9A05-23DE2C26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5858-2907-46A8-89C4-97F5D5291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"/>
              </a:rPr>
              <a:t>CATHEDRA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Of Medieval Euro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And beyo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Reims Cathed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Reims - Basilique Saint-Rémi by Jean Lemoine."/>
          <p:cNvPicPr/>
          <p:nvPr/>
        </p:nvPicPr>
        <p:blipFill>
          <a:blip r:embed="rId1"/>
          <a:stretch/>
        </p:blipFill>
        <p:spPr>
          <a:xfrm>
            <a:off x="838080" y="1752480"/>
            <a:ext cx="7162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Beauvais Cathed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eauvais"/>
          <p:cNvPicPr/>
          <p:nvPr/>
        </p:nvPicPr>
        <p:blipFill>
          <a:blip r:embed="rId1"/>
          <a:stretch/>
        </p:blipFill>
        <p:spPr>
          <a:xfrm>
            <a:off x="1143000" y="2133720"/>
            <a:ext cx="7010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St. Patrick’s Cathed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NY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St. Patricks Cathedral  by Jonas Bengtsson."/>
          <p:cNvPicPr/>
          <p:nvPr/>
        </p:nvPicPr>
        <p:blipFill>
          <a:blip r:embed="rId1"/>
          <a:stretch/>
        </p:blipFill>
        <p:spPr>
          <a:xfrm>
            <a:off x="914400" y="1828800"/>
            <a:ext cx="6858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St. Patrick’s Cathed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NY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St. Patrick's Cathedral, New York by Nick Lansley."/>
          <p:cNvPicPr/>
          <p:nvPr/>
        </p:nvPicPr>
        <p:blipFill>
          <a:blip r:embed="rId1"/>
          <a:stretch/>
        </p:blipFill>
        <p:spPr>
          <a:xfrm>
            <a:off x="1828800" y="1600200"/>
            <a:ext cx="4800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National Cathed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Washington, D.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Washington National Cathedral by since1968."/>
          <p:cNvPicPr/>
          <p:nvPr/>
        </p:nvPicPr>
        <p:blipFill>
          <a:blip r:embed="rId1"/>
          <a:stretch/>
        </p:blipFill>
        <p:spPr>
          <a:xfrm>
            <a:off x="609480" y="1828800"/>
            <a:ext cx="784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NationaL Cathedra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Washington, D.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Washington DC Cathedral Interior by buttersg88."/>
          <p:cNvPicPr/>
          <p:nvPr/>
        </p:nvPicPr>
        <p:blipFill>
          <a:blip r:embed="rId1"/>
          <a:stretch/>
        </p:blipFill>
        <p:spPr>
          <a:xfrm>
            <a:off x="838080" y="1676520"/>
            <a:ext cx="7315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Cathedral Of Notre Dam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-Pa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Notre Dame by dai oni."/>
          <p:cNvPicPr/>
          <p:nvPr/>
        </p:nvPicPr>
        <p:blipFill>
          <a:blip r:embed="rId1"/>
          <a:stretch/>
        </p:blipFill>
        <p:spPr>
          <a:xfrm>
            <a:off x="685800" y="1614600"/>
            <a:ext cx="784872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Notre Dam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Pa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N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aris_Notre_Dame_nave_central by VRfoto."/>
          <p:cNvPicPr/>
          <p:nvPr/>
        </p:nvPicPr>
        <p:blipFill>
          <a:blip r:embed="rId1"/>
          <a:stretch/>
        </p:blipFill>
        <p:spPr>
          <a:xfrm>
            <a:off x="2133720" y="1600200"/>
            <a:ext cx="4724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Notre Dam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Pa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Notre Dame.- by ancama_99(toni)."/>
          <p:cNvPicPr/>
          <p:nvPr/>
        </p:nvPicPr>
        <p:blipFill>
          <a:blip r:embed="rId1"/>
          <a:stretch/>
        </p:blipFill>
        <p:spPr>
          <a:xfrm>
            <a:off x="1295280" y="1828800"/>
            <a:ext cx="67057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Notre D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"/>
              </a:rPr>
              <a:t>Stained G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Notre Dame of Paris - the North rose window by jmvnoos in Paris."/>
          <p:cNvPicPr/>
          <p:nvPr/>
        </p:nvPicPr>
        <p:blipFill>
          <a:blip r:embed="rId1"/>
          <a:stretch/>
        </p:blipFill>
        <p:spPr>
          <a:xfrm>
            <a:off x="2895480" y="1676520"/>
            <a:ext cx="3733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Chartres Cathed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hartres Cathedral in Chartres, France (Northern facade) by Merowig."/>
          <p:cNvPicPr/>
          <p:nvPr/>
        </p:nvPicPr>
        <p:blipFill>
          <a:blip r:embed="rId1"/>
          <a:stretch/>
        </p:blipFill>
        <p:spPr>
          <a:xfrm>
            <a:off x="685800" y="1752480"/>
            <a:ext cx="7543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Chartres Cathed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hartres Cathedral by Hugo Palma.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Chartres Cathed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window-SRose-c-paradox"/>
          <p:cNvPicPr/>
          <p:nvPr/>
        </p:nvPicPr>
        <p:blipFill>
          <a:blip r:embed="rId1"/>
          <a:stretch/>
        </p:blipFill>
        <p:spPr>
          <a:xfrm>
            <a:off x="2133720" y="1676520"/>
            <a:ext cx="4267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Reims Cathed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here is the REIMS cathedral"/>
          <p:cNvPicPr/>
          <p:nvPr/>
        </p:nvPicPr>
        <p:blipFill>
          <a:blip r:embed="rId1"/>
          <a:stretch/>
        </p:blipFill>
        <p:spPr>
          <a:xfrm>
            <a:off x="1676520" y="2133720"/>
            <a:ext cx="5105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2:43:45Z</dcterms:created>
  <dc:creator>McCasland</dc:creator>
  <dc:description/>
  <dc:language>en-US</dc:language>
  <cp:lastModifiedBy>cpagliaro</cp:lastModifiedBy>
  <dcterms:modified xsi:type="dcterms:W3CDTF">2010-12-10T15:29:22Z</dcterms:modified>
  <cp:revision>4</cp:revision>
  <dc:subject/>
  <dc:title>CATHEDRALS</dc:title>
</cp:coreProperties>
</file>